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5A7-B5B4-46F2-997B-0DBA60CC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F0A-8869-4DDF-A747-A31FE76E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CFB-0C67-451F-8EE7-A72B4D79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1AA-E95D-437B-8E4A-71B2D3DB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633C-742A-444C-AF3B-53E2F16E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2F6-809F-42B7-B3E6-F59BD83C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1A9C-9462-4CC8-BFC6-B722A17D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6991-F1E8-469A-AD1D-FAE4FE45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57B0-22BA-4CA4-AE9F-10A465F7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94BE-8EAB-4FD7-B20B-FCB88463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57A1-8505-4ABA-B6A4-E87A1725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A6D-EE2A-4CC7-81E8-0CBD4AA9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3AD1-B51B-41C7-9E3D-838523CB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EFAF-B4FE-4096-A71F-E59D0F6C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EF1A-61FC-408E-BFBB-4E476628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151E-1A56-4067-B8B0-38625145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B396-965A-4742-9410-1D399FE5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226-1C0C-45D9-A335-25C8265C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64E-49B7-4AAF-AE7D-83771F57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017-B8C2-4674-B07F-35104E3D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F32-0E32-4CA0-925B-1D8BB935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67D-8308-4656-A2CD-E5E24210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167-B067-48DF-83F8-5A276C90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954-5688-4102-A596-7C94CF3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E33-871A-4B99-BD64-105F28CCF3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815F-4C11-4AE2-9F4D-7BE09CD17A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Comic Sans MS"/>
              </a:rPr>
              <a:t>Prisma triunghiular</a:t>
            </a:r>
            <a:r>
              <a:rPr b="1" i="1" lang="ro-RO" sz="4000" spc="-1" strike="noStrike">
                <a:solidFill>
                  <a:srgbClr val="ff6600"/>
                </a:solidFill>
                <a:latin typeface="Comic Sans MS"/>
              </a:rPr>
              <a:t>ă</a:t>
            </a:r>
            <a:r>
              <a:rPr b="1" i="1" lang="en-US" sz="4000" spc="-1" strike="noStrike">
                <a:solidFill>
                  <a:srgbClr val="ff6600"/>
                </a:solidFill>
                <a:latin typeface="Comic Sans MS"/>
              </a:rPr>
              <a:t>    regulat</a:t>
            </a:r>
            <a:r>
              <a:rPr b="1" i="1" lang="ro-RO" sz="4000" spc="-1" strike="noStrike">
                <a:solidFill>
                  <a:srgbClr val="ff6600"/>
                </a:solidFill>
                <a:latin typeface="Comic Sans MS"/>
              </a:rPr>
              <a:t>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33cc"/>
                </a:solidFill>
                <a:latin typeface="Comic Sans MS"/>
              </a:rPr>
              <a:t>Feier Patricia Car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33cc"/>
                </a:solidFill>
                <a:latin typeface="Comic Sans MS"/>
              </a:rPr>
              <a:t>Gabor Paula Iu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33cc"/>
                </a:solidFill>
                <a:latin typeface="Comic Sans MS"/>
              </a:rPr>
              <a:t>Haranguş Diana Andre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Def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isma triunghiular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ă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 regulat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ă  este corpul geometric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ă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ginit de 2 baze care sunt poligoane congruente 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ş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 situate 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î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 plane paralele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76720" y="4343400"/>
            <a:ext cx="2514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76720" y="3657240"/>
            <a:ext cx="16761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657600"/>
            <a:ext cx="8384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124080" y="2819160"/>
            <a:ext cx="25146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124080" y="2133720"/>
            <a:ext cx="167652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21337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133720"/>
            <a:ext cx="152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895480"/>
            <a:ext cx="15264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2819520"/>
            <a:ext cx="1526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2895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Comic Sans MS"/>
              </a:rPr>
              <a:t>Elementele prismei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2 baze,triunghi echilat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- 3 fe</a:t>
            </a:r>
            <a:r>
              <a:rPr b="1" i="1" lang="ro-RO" sz="24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 laterale, dreptunghiuri eg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- muchia(lateral</a:t>
            </a:r>
            <a:r>
              <a:rPr b="1" i="1" lang="ro-RO" sz="24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) bazei: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- muchia lateral</a:t>
            </a:r>
            <a:r>
              <a:rPr b="1" i="1" lang="ro-RO" sz="24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(H):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4495680"/>
            <a:ext cx="2514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86400" y="3809520"/>
            <a:ext cx="16765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80988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334120" y="2971800"/>
            <a:ext cx="2514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334120" y="2285640"/>
            <a:ext cx="16761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2286000"/>
            <a:ext cx="8384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2286000"/>
            <a:ext cx="1526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048120"/>
            <a:ext cx="152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48720" y="2971800"/>
            <a:ext cx="152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4419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246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6600" y="277560"/>
            <a:ext cx="79610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Formul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b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=  l² · 3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l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 = P</a:t>
            </a:r>
            <a:r>
              <a:rPr b="0" i="1" lang="ro-RO" sz="22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·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  = A</a:t>
            </a:r>
            <a:r>
              <a:rPr b="0" i="1" lang="en-US" sz="22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+ 2A</a:t>
            </a:r>
            <a:r>
              <a:rPr b="0" i="1" lang="en-US" sz="2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V   = A</a:t>
            </a:r>
            <a:r>
              <a:rPr b="0" i="1" lang="en-US" sz="22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· H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638680" y="4343400"/>
            <a:ext cx="2514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638680" y="3657240"/>
            <a:ext cx="16765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365760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2819160"/>
            <a:ext cx="25146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86400" y="2133720"/>
            <a:ext cx="167652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1337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2133720"/>
            <a:ext cx="152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2895480"/>
            <a:ext cx="15228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01000" y="2819520"/>
            <a:ext cx="152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2960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2057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2b2b2"/>
                </a:solidFill>
                <a:latin typeface="Comic Sans MS"/>
              </a:rPr>
              <a:t>PROBLEM</a:t>
            </a:r>
            <a:r>
              <a:rPr b="1" i="1" lang="ro-RO" sz="3200" spc="-1" strike="noStrike">
                <a:solidFill>
                  <a:srgbClr val="b2b2b2"/>
                </a:solidFill>
                <a:latin typeface="Comic Sans MS"/>
              </a:rPr>
              <a:t>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O prismă triunghiulară regulată ABCA’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’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’ are AB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= 8 cm 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şi A’B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 10 cm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a) Calculaţi înalţimea prismei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b) Calculaţi volumul prisme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c)Determinaţi aria triunghiului A’BC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d)Fie D şi E mijloacele segmentelor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[A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’B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]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 şi , respectiv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[BC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i)Demonstraţi că DE 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|| 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A’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ii)Calculaţi distanţa dintre dreptele DE şi A’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ulegere “Matematic</a:t>
            </a:r>
            <a:r>
              <a:rPr b="1" i="1" lang="ro-RO" sz="1800" spc="-1" strike="noStrike">
                <a:solidFill>
                  <a:srgbClr val="ffffff"/>
                </a:solidFill>
                <a:latin typeface="Comic Sans MS"/>
              </a:rPr>
              <a:t>ă pentru evaluarea naţională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”</a:t>
            </a:r>
            <a:br>
              <a:rPr sz="1800"/>
            </a:br>
            <a:r>
              <a:rPr b="1" i="1" lang="ro-RO" sz="1800" spc="-1" strike="noStrike">
                <a:solidFill>
                  <a:srgbClr val="ffffff"/>
                </a:solidFill>
                <a:latin typeface="Comic Sans MS"/>
              </a:rPr>
              <a:t>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Varianta 11 , ex. 1 </a:t>
            </a:r>
            <a:r>
              <a:rPr b="1" i="1" lang="ro-RO" sz="1800" spc="-1" strike="noStrike">
                <a:solidFill>
                  <a:srgbClr val="ffffff"/>
                </a:solidFill>
                <a:latin typeface="Comic Sans MS"/>
              </a:rPr>
              <a:t>, S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.3, pg 1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3:52:26Z</dcterms:created>
  <dc:creator>ciocio</dc:creator>
  <dc:description/>
  <dc:language>en-US</dc:language>
  <cp:lastModifiedBy>ciocio</cp:lastModifiedBy>
  <dcterms:modified xsi:type="dcterms:W3CDTF">2011-02-15T16:52:36Z</dcterms:modified>
  <cp:revision>10</cp:revision>
  <dc:subject/>
  <dc:title>Prisma triunghiulară regulată dreaptă</dc:title>
</cp:coreProperties>
</file>